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89E-16DF-4323-8D1B-10F64CD7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57FC-50BE-4D5E-976E-3F8ABA9E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AF92-67E2-4EA4-83AF-896A4464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2F5A-9BF4-4E06-A934-00603512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73A0-3893-40BA-B4DE-B3307988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141E-34C6-4B04-A858-3CD617C1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E469-D033-41D6-A3B6-252B595E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8A2F-730D-4FFB-8644-2E15C6AB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19AC-0F95-48B2-A48F-2A0BC5BE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A3F6-D65D-42B2-8A55-42C09752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3DC5-E7AF-4C69-B5B3-B33186D2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55C4-74B5-4D84-B9C4-BAEFDAF9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FB2B-6CB6-4911-B137-2461DEE8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B8B6-D28D-4994-BE20-69542D0E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D0D2-48E8-478A-A1DC-B3497682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10A5-C05C-4DC5-BEFA-05E9DD1A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CD68-224E-4A48-9E16-F11CBBC9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49DC-2ECF-4A54-AD93-5297350A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C779-24D7-4B48-BBE7-FD8A26D5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EA1D-2F45-4AED-8ACF-C09063F6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CA40-0E86-43E7-B7AD-9B241945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C494-0CB1-40D5-A7E4-FB3EF344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8038-48F4-4E30-9E8B-D591FE38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91F-9778-4E50-B104-3ED965F4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8052-687E-4CCA-B055-E3A627A274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43AD-6306-4950-8715-5DA81A8A45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Leibowitz,_Samuel_&amp;_Scottsboro_Boys_193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atterson,_Haywood_C193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Scottsboro_Mob_1931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Bates,_Ruby_&amp;_Victoria_Pric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999900"/>
                </a:solidFill>
                <a:latin typeface="Garamond"/>
              </a:rPr>
              <a:t>Scottsboro Boys</a:t>
            </a:r>
            <a:br>
              <a:rPr sz="5200"/>
            </a:br>
            <a:r>
              <a:rPr b="1" lang="en-US" sz="5200" spc="-1" strike="noStrike">
                <a:solidFill>
                  <a:srgbClr val="999900"/>
                </a:solidFill>
                <a:latin typeface="Garamond"/>
              </a:rPr>
              <a:t>Part I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250px-Leibowitz%2C_Samuel_%26_Scottsboro_Boys_19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0"/>
            <a:ext cx="609300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5200" spc="-1" strike="noStrike">
                <a:solidFill>
                  <a:srgbClr val="999900"/>
                </a:solidFill>
                <a:latin typeface="Garamond"/>
              </a:rPr>
              <a:t>Scottsboro Boys </a:t>
            </a:r>
            <a:br>
              <a:rPr sz="5200"/>
            </a:br>
            <a:r>
              <a:rPr b="1" lang="en-US" sz="5200" spc="-1" strike="noStrike">
                <a:solidFill>
                  <a:srgbClr val="999900"/>
                </a:solidFill>
                <a:latin typeface="Garamond"/>
              </a:rPr>
              <a:t>Part II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Supreme Court Steps I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1932 the Supreme Court ruled in Powell v. Alabama that the trials were invalidated because they did not have proper representation from a lawy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5" descr="IMG_1700"/>
          <p:cNvPicPr/>
          <p:nvPr/>
        </p:nvPicPr>
        <p:blipFill>
          <a:blip r:embed="rId1"/>
          <a:stretch/>
        </p:blipFill>
        <p:spPr>
          <a:xfrm>
            <a:off x="5029200" y="377208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914400" y="4191120"/>
            <a:ext cx="3505320" cy="2361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066680" y="4343400"/>
            <a:ext cx="312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do you predict the Alabama courts will do nex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 New Tr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ywood Patterson was given a new tri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uel Leibowitz heard of the injustices and offered to defend Patters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of the women, Ruby Bates, retracted her testimony, and a doctor testified there was no evidence of rap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8" descr="80px-Patterson%2C_Haywood_C19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0840" y="0"/>
            <a:ext cx="10731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Verdic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jury found Patterson guil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judge threw out the case because he claimed that there was not enough evidence for the jury to convict hi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 is tried again but this time with another boy, Clarence Norr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are convicted agai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tenced to the electric chai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 times” -- Norr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5" descr="Clarence Norris on the stand"/>
          <p:cNvPicPr/>
          <p:nvPr/>
        </p:nvPicPr>
        <p:blipFill>
          <a:blip r:embed="rId1"/>
          <a:stretch/>
        </p:blipFill>
        <p:spPr>
          <a:xfrm>
            <a:off x="6934320" y="4267080"/>
            <a:ext cx="19620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Supreme Court Steps In Agai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1935 the Supreme Court ruled in Norris v. Alabama that the convictions were wrong because it was not a jury of their peers, because there were no blacks on the jury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abama decided to try the defendants agai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rials last into the 1940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250px-Scottsboro_Mob_19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35920" y="4400640"/>
            <a:ext cx="20080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t All End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ve of the boys, Ozie Powell, Andy Wright, Clarence Norris, Haywood Paterson, and Charlie Weems are convicted and get long prison senten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drop the charges of four of the boys, Roy Wright, Eugene Williams, Olen Montgomery, and Willie Robers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Works Cited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c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in http://ghostdepot.com/rg/images/marshall%20route/marshall%20pass%20470%20locomotive%20passenger%20train%201931%20prn.jpg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reme Court http://www.slowtrav.com/blog/chiocciola/washington_dc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p https://www.ftnewspaper.com/ftusa/gfx/worldmap.gi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ers http://www.english.illinois.edu/maps/poets/a_f/boyle/protestexhibit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ywood and crowd http://www.answers.com/topic/scottsboro-bo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rris http://www.pbs.org/wgbh/amex/scottsboro/peopleevents/p_norris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1931-- Alabam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boys (black and white) hitched a ride on a train. They were looking for work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ight broke out and the white boys were shoved off the trai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train arrived at the next station, the 9 black boys were arrest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5" descr="marshall%20pass%20470%20locomotive%20passenger%20train%201931%20prn"/>
          <p:cNvPicPr/>
          <p:nvPr/>
        </p:nvPicPr>
        <p:blipFill>
          <a:blip r:embed="rId1"/>
          <a:stretch/>
        </p:blipFill>
        <p:spPr>
          <a:xfrm>
            <a:off x="5257800" y="4438800"/>
            <a:ext cx="3886200" cy="2419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457200" y="4572000"/>
            <a:ext cx="3733920" cy="2057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09480" y="4952880"/>
            <a:ext cx="33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do you think they were arrested fo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AP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women in another car on the train who had never seen the boys claimed that the 9 black boys raped them. The white boys who were thrown off confirmed this story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wo women we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ctoria Price and Rub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t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175px-Bates%2C_Ruby_%26_Victoria_Pri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3894120"/>
            <a:ext cx="3730680" cy="29638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209680" y="5943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ft: Ruby Bates &amp; Victoria Price in 1931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 Tr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cottsboro 9 went to trial.  They were represented by volunteer lawyers who were ill-equipp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n though the evidence had holes in it, 8 were sentenced to death. One, Roy Wright, the youngest (13), was sentenced to life in pris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447920" y="4800600"/>
            <a:ext cx="6248160" cy="1828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828800" y="502920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you think their trial was fai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Nation Becomes Outrag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s of the injustices in the judicial system of the South reached the entire country and even across the glob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ople started letter writing campaigns, rallies, and marches. There were even demonstrations in Paris, Moscow, and South Afric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worldmap"/>
          <p:cNvPicPr/>
          <p:nvPr/>
        </p:nvPicPr>
        <p:blipFill>
          <a:blip r:embed="rId1"/>
          <a:stretch/>
        </p:blipFill>
        <p:spPr>
          <a:xfrm>
            <a:off x="3657600" y="4272120"/>
            <a:ext cx="4724280" cy="258588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6"/>
          <p:cNvSpPr/>
          <p:nvPr/>
        </p:nvSpPr>
        <p:spPr>
          <a:xfrm>
            <a:off x="5715000" y="4800600"/>
            <a:ext cx="228600" cy="2286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4495680" y="4876920"/>
            <a:ext cx="228600" cy="3808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4114800" y="4876920"/>
            <a:ext cx="304920" cy="3045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5943600" y="6095880"/>
            <a:ext cx="228600" cy="457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6019920" y="4724280"/>
            <a:ext cx="228600" cy="2286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scotts01.jpg (46988 bytes)"/>
          <p:cNvPicPr/>
          <p:nvPr/>
        </p:nvPicPr>
        <p:blipFill>
          <a:blip r:embed="rId1"/>
          <a:stretch/>
        </p:blipFill>
        <p:spPr>
          <a:xfrm>
            <a:off x="0" y="0"/>
            <a:ext cx="4508640" cy="655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scotts02.jpg (50827 bytes)"/>
          <p:cNvPicPr/>
          <p:nvPr/>
        </p:nvPicPr>
        <p:blipFill>
          <a:blip r:embed="rId2"/>
          <a:stretch/>
        </p:blipFill>
        <p:spPr>
          <a:xfrm>
            <a:off x="4724280" y="228600"/>
            <a:ext cx="3429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scotts04.jpg (54419 bytes)"/>
          <p:cNvPicPr/>
          <p:nvPr/>
        </p:nvPicPr>
        <p:blipFill>
          <a:blip r:embed="rId1"/>
          <a:stretch/>
        </p:blipFill>
        <p:spPr>
          <a:xfrm>
            <a:off x="0" y="0"/>
            <a:ext cx="4575240" cy="6019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scotts03.jpg (45235 bytes)"/>
          <p:cNvPicPr/>
          <p:nvPr/>
        </p:nvPicPr>
        <p:blipFill>
          <a:blip r:embed="rId2"/>
          <a:stretch/>
        </p:blipFill>
        <p:spPr>
          <a:xfrm>
            <a:off x="4572000" y="0"/>
            <a:ext cx="45212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scotts05.jpg (55749 bytes)"/>
          <p:cNvPicPr/>
          <p:nvPr/>
        </p:nvPicPr>
        <p:blipFill>
          <a:blip r:embed="rId1"/>
          <a:stretch/>
        </p:blipFill>
        <p:spPr>
          <a:xfrm>
            <a:off x="609480" y="304920"/>
            <a:ext cx="792504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 written response to these reflection ques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Were the Scottsboro boys treated unfairl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Why do you think people failed to treat the Scottsboro boys with justic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Predict how Alabama will respond to these rallies and protes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 Predict what will happen to the boys. To Ruby Bates and Victoria Pri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3:36:33Z</dcterms:created>
  <dc:creator>stevens</dc:creator>
  <dc:description/>
  <dc:language>en-US</dc:language>
  <cp:lastModifiedBy>Hilary Wiltshire</cp:lastModifiedBy>
  <dcterms:modified xsi:type="dcterms:W3CDTF">2011-03-08T16:11:58Z</dcterms:modified>
  <cp:revision>9</cp:revision>
  <dc:subject/>
  <dc:title>Scottsboro Boys</dc:title>
</cp:coreProperties>
</file>